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EC2-2C67-4BF0-A382-0C4C5787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39C2-03A7-4C26-80F2-C0E75FB9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247-289F-4D19-8B68-576E617A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83D9-FD61-4E20-8568-B7AD779E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20AC-90E2-4D00-8CC6-E70BB416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70E-1F9D-4685-BFBA-07AC8F7C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5E4-B82A-41EB-AAD5-29B4D7EE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F10-FE54-4015-AF99-7245CC65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C45D-C58A-4346-8C49-16455817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7821-26E2-4677-9DA4-3C5C97C8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A88-DFA8-4B70-8992-2A0558F3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D38-A4A3-4429-A415-75214960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587-4EF3-4FE8-A772-904C2B89D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BB40-70A0-4778-8784-FB2A98A9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355C-A188-46AF-A500-A870A5BF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83AE-A979-4F85-8954-892ED0A7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BB3-01EC-46AD-AEED-A8B85173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CC97-8FB2-4565-B09B-995753BA5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02D-85B0-41C7-96A3-3B4E2530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D75-B938-4B9F-8597-DD1CBC1BD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CEB6-6639-4B39-AF4E-B7111D11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B5A-4645-4020-91AB-57474BD1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37FE-6CE9-4F81-B765-71C6BAEAF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3999-2082-41E6-8D05-AEF8ECB8A3E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E031-7E1F-4F61-B69C-C4A0958C48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AF7C-CC21-41AD-8CCE-D289C0708AB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9F4B-FD01-4C0D-91CE-8C5990BD24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7806-CCF4-446C-BC24-FC79757E9FD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F0E4-6D7B-4C39-99EF-0031F7DBA8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F53F-312F-4995-BFAC-22305CCAAF3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270F-EC48-446B-9365-08C36C40F90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1BF8-9C91-4458-9AA5-C39CBCDD546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5036-8AB8-422A-A0F1-D5B606B9B2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597A-AA1C-47F1-8C54-0F6D511FA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D7BA-B727-4EED-92E1-A259876734D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E1FC-E59B-4E23-A906-50B3F96A336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561E-5B00-4AE2-9853-5555378FF7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550C-6A30-4DC4-BBE6-DC2F667C935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2FFA-C4AE-4F0E-91D1-1F53B931DF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F73E8-663B-4825-877B-5420A964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9908C-2BA7-416B-B8ED-17D19D0E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2878-0192-456E-AAD0-1A20BD0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053E5-4A6E-4126-8ACE-F0E845CB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7F03-A4C3-4A79-9368-EED5502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B446-9395-483B-AB44-03ED8BBAB4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2135-E235-4C71-9394-6AFEED4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80933-04F0-4213-AA71-AB1B2DCE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751A0-A030-4450-A63B-820273D8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A5F4C-9C13-4EE0-B558-732BE30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580B4-58BA-4A39-AFD1-08AF95C1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83DA5-5BBC-417E-9DCB-8CEFB36D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566E1-72AC-4BF2-8362-A5EC5A7F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0A428-F089-42AB-BA3E-D76DDB9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1628F-65C7-4B2A-BF1B-E2D60F3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C91EC-F4DD-43C0-ADC4-EE5D005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E611C-35F3-4345-B278-AA3E1A6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EA010-1F60-4A60-B273-4B618F87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E1C6A-6738-47C8-ADF5-0045DCE9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3B355-2A7D-428D-AA95-8C1641C5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F8699-E784-4CA4-9614-F42B511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00A33-54C0-465B-8892-BFDB901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8724D-FC58-4CEF-8075-76D6D9B9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6E83A-43C9-4594-9154-E7E7EBDB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4AE58-C837-40BF-8E32-4FD6D8BE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3C4FC-A46E-4847-B437-37804EE5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1EA2C-6190-4F3B-882E-66EB9547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9AC4D-6591-4BD1-BFDD-53E5F6C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E8AA-4E1F-4777-9EE7-C842AB16A7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0E317-F2FB-4D01-A8F5-2F50713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363F3-AA46-4779-B0FC-C2519594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0BE34-8132-4794-95B0-FD2C29E9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DA66A-4123-46F8-B1E1-A779090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1905E-DC4B-4C47-9E81-41A7C481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6FA6D-B8CC-47EB-A459-CCDE52A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2511D-369B-44BE-B186-35B7C32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16641-DA04-4436-B481-9E282CED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56497-A0BF-4576-A209-1A53490F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70C9F-0E36-484C-B6F9-ED9985FA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00C1-2975-4E46-B2BD-EBF5AD43FD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0A86B-B0E2-4811-A567-72C46936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9020B-057B-46DC-9E8F-578638AF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AA168-DD5F-4A09-977F-73F7DD5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0ED7B-A148-411D-AA0D-E0FEF63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959F4-CF6B-440F-BF3D-BD784AB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7AA7A-7E0D-4BE6-A8AE-A20AC46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1E9AA-B396-4652-BF3D-B51F9517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09484-0C06-4221-BE7B-10202B3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A1FAD-E589-4301-A4D6-AA6F8098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53DA2-B969-407A-AC3A-AEBC4B38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715C-7A25-4D02-BBF7-45CCAADE71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50CBC-9569-484B-B3F1-EB102536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B91F8-0BBF-431E-9543-9A1B6CF3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3E449-8883-47AF-8999-64A8D57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06CFC-74B6-40C5-AD53-0FD04E7D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6E372-D751-452F-A02D-1EB5F9D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EC8AF-5526-49AD-A55D-F700D765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E7106-7C3C-40A3-86C2-92AF6AA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C7165-599C-4209-99A9-1A35EC2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9CC94-FFDD-4BF1-BEA5-B26D9F4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694ED-8FBF-46CA-896A-386DCD0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3785-6F9C-4C6F-A5A9-AEC8A09236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28211-0F22-4EE7-B444-A1746B2C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0FD4E-C2BE-461B-85C9-8A6FAE08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B098E-709C-48EF-8513-B9BA8EAF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3BFD7-159B-48F4-9CCD-5FF4C29E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0AFB4-63C8-4E19-805F-B2446A7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856E4-EA0C-4A1B-9C36-7D3B2C1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7D7FE-AECE-4D01-9EDA-2373FB0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DDAC1-3162-42B2-BACC-63D04C11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6DD78-F306-40E7-8C35-1E0F7B3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2F1C2-E00A-4D71-869B-88F928E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A3DF-50C7-4275-94B6-F7793EA6DE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72F49-3627-4CFD-8F42-ADFA59C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EF6E3-644B-427D-B4DD-092E4E83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B382E-E15B-445C-B033-97D35C9C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1631F-52E4-43A0-9BDA-15805D9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DE438-0589-48D0-8FD4-CD26BEAB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988B-0986-4E86-8BC2-F2B8A014A7A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B6C-27DA-4EF0-B30F-EACA151333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2B0A-404B-4331-A16B-9B633A6E7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03C-D3FC-476D-9316-CB11944EFB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18D-FA9C-421E-BE87-CCF1999BF9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710-8189-48E6-B12C-B2E7445189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F526-BEA0-493F-9D47-374EF4301E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35A-9C8E-4D88-A056-28294036E3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31E-6FF0-4C50-90CE-EC2926E27B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Rectangle 5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 txBox="1"/>
          <p:nvPr/>
        </p:nvSpPr>
        <p:spPr>
          <a:xfrm>
            <a:off x="4572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don’t use voucher checks or if you don’t print checks from QuickBooks, you can still print paystubs for your employees on blank pap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27" name="Picture 4" descr="C:\Users\DPEMBR~1\AppData\Local\Temp\SNAGHTML11057b02.PNG"/>
          <p:cNvPicPr/>
          <p:nvPr/>
        </p:nvPicPr>
        <p:blipFill>
          <a:blip r:embed="rId2"/>
          <a:stretch/>
        </p:blipFill>
        <p:spPr>
          <a:xfrm>
            <a:off x="4038480" y="1752480"/>
            <a:ext cx="4991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haven’t printed the paycheck, you can edit the paycheck directly in the regis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om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mployees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u,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dit/Void Payche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the from and to dates and then select the paycheck from the list to ed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edit the items on the paycheck, cl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ycheck Detai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Picture 4" descr="C:\Users\DPEMBR~1\AppData\Local\Temp\SNAGHTML131bb925.PNG"/>
          <p:cNvPicPr/>
          <p:nvPr/>
        </p:nvPicPr>
        <p:blipFill>
          <a:blip r:embed="rId1"/>
          <a:stretch/>
        </p:blipFill>
        <p:spPr>
          <a:xfrm>
            <a:off x="800280" y="1457280"/>
            <a:ext cx="7543800" cy="5095800"/>
          </a:xfrm>
          <a:prstGeom prst="rect">
            <a:avLst/>
          </a:prstGeom>
          <a:ln w="0">
            <a:noFill/>
          </a:ln>
        </p:spPr>
      </p:pic>
      <p:pic>
        <p:nvPicPr>
          <p:cNvPr id="1231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2" name="Oval 8"/>
          <p:cNvSpPr/>
          <p:nvPr/>
        </p:nvSpPr>
        <p:spPr>
          <a:xfrm>
            <a:off x="3886200" y="2819520"/>
            <a:ext cx="426708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several reports that you can use to analyze your payrol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yroll Summary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les Rep Commissio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yroll Liabilities Re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 txBox="1"/>
          <p:nvPr/>
        </p:nvSpPr>
        <p:spPr>
          <a:xfrm>
            <a:off x="456840" y="167652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ws columns for each employee, their hours and rates of p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7" name="Picture 4" descr="C:\Users\DPEMBR~1\AppData\Local\Temp\SNAGHTML132274a7.PNG"/>
          <p:cNvPicPr/>
          <p:nvPr/>
        </p:nvPicPr>
        <p:blipFill>
          <a:blip r:embed="rId2"/>
          <a:stretch/>
        </p:blipFill>
        <p:spPr>
          <a:xfrm>
            <a:off x="4114800" y="1295280"/>
            <a:ext cx="388620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s to calculate the commissions d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report requires you to first tag each sale with the employee who gets cred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0" name="Picture 4" descr="C:\Users\DPEMBR~1\AppData\Local\Temp\SNAGHTML79234a.PNG"/>
          <p:cNvPicPr/>
          <p:nvPr/>
        </p:nvPicPr>
        <p:blipFill>
          <a:blip r:embed="rId2"/>
          <a:stretch/>
        </p:blipFill>
        <p:spPr>
          <a:xfrm>
            <a:off x="1600200" y="3276720"/>
            <a:ext cx="59436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cks the status of your payroll liabilities by Payroll I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3" name="Picture 4" descr="C:\Users\DPEMBR~1\AppData\Local\Temp\SNAGHTML1353d3d7.PNG"/>
          <p:cNvPicPr/>
          <p:nvPr/>
        </p:nvPicPr>
        <p:blipFill>
          <a:blip r:embed="rId2"/>
          <a:stretch/>
        </p:blipFill>
        <p:spPr>
          <a:xfrm>
            <a:off x="533520" y="2895480"/>
            <a:ext cx="807696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pgrade your tax tables before processing Forms 941, 940 or W-2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ay Liabiliti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window to create your tax payments prior to creating your Quarterly and Annual Payroll Form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941 will use these payments for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Deposits ma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alcul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940 form computes your Federal Unemployment tax based on the 940 contributions, your State Unemployment liabilities, and payments made throughout the year (if applicabl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l of the payroll tax forms calculate automatically using the information on Paychecks and Payroll Liability Pay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534520" cy="1573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4" descr="C:\Users\DPEMBR~1\AppData\Local\Temp\SNAGHTML19bd3317.PNG"/>
          <p:cNvPicPr/>
          <p:nvPr/>
        </p:nvPicPr>
        <p:blipFill>
          <a:blip r:embed="rId2"/>
          <a:stretch/>
        </p:blipFill>
        <p:spPr>
          <a:xfrm>
            <a:off x="263520" y="2286000"/>
            <a:ext cx="3699000" cy="24494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5" descr="C:\Users\DPEMBR~1\AppData\Local\Temp\SNAGHTML19be0d11.PNG"/>
          <p:cNvPicPr/>
          <p:nvPr/>
        </p:nvPicPr>
        <p:blipFill>
          <a:blip r:embed="rId3"/>
          <a:stretch/>
        </p:blipFill>
        <p:spPr>
          <a:xfrm>
            <a:off x="4419720" y="1676520"/>
            <a:ext cx="43988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prepares Form 940 used to report the annual FUTA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cess for creating Form 940 is nearly the same as for Form 94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RS requires that you pay Form 940 taxes separately than the Form 941 tax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’ll also print Form 940 on blank paper suitable for filing with the I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the Employee Center to view previous payroll activ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pdate your Payroll Tax Tab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checks and override default calcula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dit, Void, and Delete Pay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just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roll Rep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are Payroll Tax Form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2" name=""/>
          <p:cNvSpPr txBox="1"/>
          <p:nvPr/>
        </p:nvSpPr>
        <p:spPr>
          <a:xfrm>
            <a:off x="45720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rom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ome P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ocess Payroll Fo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nnua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rm W-2 – Wage Tax Statement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hoose a form you want to use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QuickBooks displays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ocess W-2s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ndow, select 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On the Process W-2s window, select all of the employees you want to review and then click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Review W-2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fter you reviewing the W-2s, 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 W-2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n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ocess W-2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window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the Employee Center to view previous payroll activ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pdate your Payroll Tax Tabl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checks and override default calcula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dit, Void, and Delete Pay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just Payroll Liabil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Payroll Rep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are Payroll Tax For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Payda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view the previous payroll activity in the Employee Cen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at your tax tables are current and update them if necessa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, review, and correct (if necessary) paychec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t paychecks and pays stub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Tax Deposit Due Dat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, review, and correct (if necessary) liability pay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t liability payment chec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8080" cy="1170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Quarte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e accuracy of all payroll transactions for the previous quar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reports for the previous quarter and year-to-d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tax returns (Federal For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 Januar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e accuracy of all payroll transactions for the entire previous 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reports for the previous quarter and year-to-d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payroll tax returns (Federal Form 941, 940, and State Quarterly and Yearly Retur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3" descr="C:\Users\DPEMBR~1\AppData\Local\Temp\SNAGHTML1e5041.PNG"/>
          <p:cNvPicPr/>
          <p:nvPr/>
        </p:nvPicPr>
        <p:blipFill>
          <a:blip r:embed="rId2"/>
          <a:stretch/>
        </p:blipFill>
        <p:spPr>
          <a:xfrm>
            <a:off x="1190520" y="1719360"/>
            <a:ext cx="67629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ayroll Tax Tabl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clude the tax rates necessary to calculate an employee’s payche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s the taxes withheld from paycheck and the company payroll tax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3" descr="C:\Users\DPEMBR~1\AppData\Local\Temp\SNAGHTML3c0760.PNG"/>
          <p:cNvPicPr/>
          <p:nvPr/>
        </p:nvPicPr>
        <p:blipFill>
          <a:blip r:embed="rId2"/>
          <a:stretch/>
        </p:blipFill>
        <p:spPr>
          <a:xfrm>
            <a:off x="974880" y="1523880"/>
            <a:ext cx="71942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Rectangle 2" descr=""/>
          <p:cNvPicPr/>
          <p:nvPr/>
        </p:nvPicPr>
        <p:blipFill>
          <a:blip r:embed="rId1"/>
          <a:stretch/>
        </p:blipFill>
        <p:spPr>
          <a:xfrm>
            <a:off x="-255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3" descr="C:\Users\DPEMBR~1\AppData\Local\Temp\SNAGHTML10e43ae6.PNG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Rectangle 2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223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Voucher check style so that QuickBooks can print the pay stub information on the voucher portion of the chec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24" name="Picture 4" descr="C:\Users\DPEMBR~1\AppData\Local\Temp\SNAGHTML11036e45.PNG"/>
          <p:cNvPicPr/>
          <p:nvPr/>
        </p:nvPicPr>
        <p:blipFill>
          <a:blip r:embed="rId2"/>
          <a:stretch/>
        </p:blipFill>
        <p:spPr>
          <a:xfrm>
            <a:off x="3962520" y="1752480"/>
            <a:ext cx="5079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9:49:09Z</dcterms:created>
  <dc:creator>The Sleeter Group, Inc.</dc:creator>
  <dc:description/>
  <dc:language>en-US</dc:language>
  <cp:lastModifiedBy>Deborah Pembrook</cp:lastModifiedBy>
  <dcterms:modified xsi:type="dcterms:W3CDTF">2011-12-09T05:46:00Z</dcterms:modified>
  <cp:revision>168</cp:revision>
  <dc:subject/>
  <dc:title>Chapter 6 Payroll Processing </dc:title>
</cp:coreProperties>
</file>